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EC6D-8872-4D93-B943-3458C5B4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9EA8-E140-4C4E-81EC-C4F1D92D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67B2-0622-47AA-8FB6-9088EB96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98E7-D7B8-41AA-8278-E7C18A61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D560-2615-4CBA-A09B-ED5EA947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EDA7-0B22-48D0-9166-22B9195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274E-BC4B-451F-9AE5-E5B3D92E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51E-538B-4C27-8813-74A29C6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A6B9-CA86-4384-8E73-38185B30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54F5-557C-48E6-A7B6-3D468731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AC6F-036E-4AAD-A4FB-35FD5C67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C6D0-9855-46DF-811E-67EDCA3B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2F84-9579-47F3-B781-30218EF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6DF5-22C2-459B-85CE-1414379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0177-0AD0-4AD4-B945-7730766F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6025-99C8-4E9E-A51E-A2121207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5FDC-4413-49A4-A70A-CCD5ED87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F819-8301-4546-A982-9C32106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9C80-C206-4E9A-9C30-50596B61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4191-F7FA-4D2D-B674-B64CC2B4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AD50-C816-486C-8403-9FBAEF37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2454-05EB-4BCB-8DB0-5B14546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96DA-9AEA-4F4F-BB6A-7A87752B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5565-A063-44B9-B3DE-FFEB6FD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BAAE-AC5A-437D-9D85-DA182C15035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3070-D3BB-44B4-92A9-A9CC36D2860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7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4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знаем кога Той ще дойд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ладне или посред нощ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вечер или в дрезгавина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л заран, доде е тъмно ощ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всякога да сме готов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пръскаме вред светлин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лата ни нека просветна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 фарове сред тъмнин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523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наш ще дойд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оро ще дой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наш ще дойд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отведе във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есна любов ни показ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ръвта Си проля милий Сп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тави небесната сл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жертва тук стана за н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секи изкупен в кръвта Му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дига свой глас на хвал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надежда, когато Той дойд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литне в небе със кри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наш ще дойд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оро ще дой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наш ще дойд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отведе във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ю, за Теб копне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жида Те мойто сърц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чакам тук скоро да вид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зримото Твое лиц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то Ти дойдеш да съдиш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а, за когото умр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газ мен като Свой прияте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земи Ти навеки в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наш ще дойд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оро ще дой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наш ще дойд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отведе във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39:29Z</dcterms:modified>
  <cp:revision>58</cp:revision>
  <dc:subject/>
  <dc:title>Slide 1</dc:title>
</cp:coreProperties>
</file>